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93A-ABBF-43A5-81BF-DA3FC079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EE70-5E8B-42F8-B109-4AB3C1C9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9AB6-6BEC-49C9-AA57-48E3783E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916-4F59-4665-8BB2-C236528E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EA5F-2C3E-471D-B6F0-BB4C5BA1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4F8-103F-438B-9CB6-AEF23670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6CB4-7A7D-47EA-8A04-D72EF428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E948-CC9F-41DC-A8B2-740B01D2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0E54-9A5B-4387-8DDF-59AA6F1A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7DC-0A0B-4FAF-8F4A-C3D9E12B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97D3-D059-4BF2-A8DF-73E14242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F9E-8AFB-4339-9CE1-2D51CBDA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3C9C-35FE-4367-B9DF-F17B518356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286000" y="380880"/>
            <a:ext cx="466236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3D shapes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609480" y="2514600"/>
            <a:ext cx="1263600" cy="182880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200400" y="3276720"/>
            <a:ext cx="2057400" cy="166500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685800" y="5486400"/>
            <a:ext cx="3657600" cy="99072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val 6"/>
          <p:cNvSpPr/>
          <p:nvPr/>
        </p:nvSpPr>
        <p:spPr>
          <a:xfrm>
            <a:off x="6324480" y="2362320"/>
            <a:ext cx="2246400" cy="224928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44a92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15"/>
          <p:cNvGrpSpPr/>
          <p:nvPr/>
        </p:nvGrpSpPr>
        <p:grpSpPr>
          <a:xfrm>
            <a:off x="5961600" y="4609440"/>
            <a:ext cx="2021400" cy="1904760"/>
            <a:chOff x="5961600" y="4609440"/>
            <a:chExt cx="2021400" cy="1904760"/>
          </a:xfrm>
        </p:grpSpPr>
        <p:sp>
          <p:nvSpPr>
            <p:cNvPr id="47" name="AutoShape 11"/>
            <p:cNvSpPr/>
            <p:nvPr/>
          </p:nvSpPr>
          <p:spPr>
            <a:xfrm rot="17649600">
              <a:off x="6147000" y="4852440"/>
              <a:ext cx="1371600" cy="1295280"/>
            </a:xfrm>
            <a:prstGeom prst="triangle">
              <a:avLst>
                <a:gd name="adj" fmla="val 50000"/>
              </a:avLst>
            </a:prstGeom>
            <a:solidFill>
              <a:srgbClr val="cc66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 rot="17649600">
              <a:off x="6774480" y="5513400"/>
              <a:ext cx="1369800" cy="533520"/>
            </a:xfrm>
            <a:prstGeom prst="ellipse">
              <a:avLst/>
            </a:prstGeom>
            <a:gradFill rotWithShape="0">
              <a:gsLst>
                <a:gs pos="0">
                  <a:srgbClr val="cc66ff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6 flat 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aces are all rectangles (square or oblo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12 straight edges and 8 cor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5486400" y="388620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990720" y="304920"/>
            <a:ext cx="2590560" cy="579096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757680" y="838080"/>
            <a:ext cx="5243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cuboi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no flat fac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no straight edg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just one curved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187280" y="112680"/>
            <a:ext cx="6280200" cy="6288120"/>
          </a:xfrm>
          <a:prstGeom prst="ellipse">
            <a:avLst/>
          </a:prstGeom>
          <a:gradFill rotWithShape="0">
            <a:gsLst>
              <a:gs pos="0">
                <a:srgbClr val="66ff33"/>
              </a:gs>
              <a:gs pos="100000">
                <a:srgbClr val="3d981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811880" y="1752480"/>
            <a:ext cx="5290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ell Done!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spher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curved 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flat 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y flat face is a cir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80880" y="4267080"/>
            <a:ext cx="2149560" cy="23194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3152160" y="-117000"/>
            <a:ext cx="5736240" cy="6481800"/>
            <a:chOff x="3152160" y="-117000"/>
            <a:chExt cx="5736240" cy="6481800"/>
          </a:xfrm>
        </p:grpSpPr>
        <p:sp>
          <p:nvSpPr>
            <p:cNvPr id="58" name="AutoShape 6"/>
            <p:cNvSpPr/>
            <p:nvPr/>
          </p:nvSpPr>
          <p:spPr>
            <a:xfrm rot="20661000">
              <a:off x="3686400" y="397440"/>
              <a:ext cx="4443480" cy="4573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Oval 7"/>
            <p:cNvSpPr/>
            <p:nvPr/>
          </p:nvSpPr>
          <p:spPr>
            <a:xfrm rot="20661000">
              <a:off x="4310280" y="3975840"/>
              <a:ext cx="4413240" cy="1827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000000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Text Box 9"/>
          <p:cNvSpPr/>
          <p:nvPr/>
        </p:nvSpPr>
        <p:spPr>
          <a:xfrm>
            <a:off x="228600" y="533520"/>
            <a:ext cx="6400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Great work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am a c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6 flat square 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12 straight ed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8 corners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2"/>
          <p:cNvSpPr/>
          <p:nvPr/>
        </p:nvSpPr>
        <p:spPr>
          <a:xfrm>
            <a:off x="457200" y="304920"/>
            <a:ext cx="5562720" cy="535608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4000" y="2421000"/>
            <a:ext cx="4572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Fantastic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Comic Sans MS"/>
              </a:rPr>
              <a:t>I am a cub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6553080" y="4038480"/>
            <a:ext cx="24289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Scruff LET"/>
              </a:rPr>
              <a:t>What shape am I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one curved fa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have 2 flat circular faces.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 am a …………?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AutoShape 3"/>
          <p:cNvSpPr/>
          <p:nvPr/>
        </p:nvSpPr>
        <p:spPr>
          <a:xfrm>
            <a:off x="1066680" y="228600"/>
            <a:ext cx="4002120" cy="57913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195264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Well Don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 am a cylinde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238880" y="3733920"/>
            <a:ext cx="14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46:58Z</dcterms:created>
  <dc:creator>Claire Mackay</dc:creator>
  <dc:description/>
  <dc:language>en-US</dc:language>
  <cp:lastModifiedBy>USER</cp:lastModifiedBy>
  <dcterms:modified xsi:type="dcterms:W3CDTF">2009-11-16T04:02:22Z</dcterms:modified>
  <cp:revision>4</cp:revision>
  <dc:subject/>
  <dc:title>PowerPoint Presentation</dc:title>
</cp:coreProperties>
</file>